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34899"/>
        <c:axId val="41099340"/>
      </c:barChart>
      <c:catAx>
        <c:axId val="33034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99340"/>
        <c:crosses val="autoZero"/>
        <c:auto val="1"/>
        <c:lblAlgn val="ctr"/>
        <c:lblOffset val="100"/>
        <c:noMultiLvlLbl val="0"/>
      </c:catAx>
      <c:valAx>
        <c:axId val="41099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34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79D-A07A-4BC9-AEC4-24B6244B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D62-2901-4FB3-9305-20639F8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243-3D48-48E5-8069-0188BEA5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EB0-4B68-452E-B11D-E643C4B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437-C447-4D58-9DCA-CB2A71E7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914-7094-4B86-8917-DC2D501B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25C-5F74-4851-94B3-AD8242ED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690-9851-4E35-9B4F-261E042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6C1-96B0-4BD3-BDC9-69339742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7AD-4E17-49B4-86B1-8449DA0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C2E-D6F4-41D7-8C43-9FD0E79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3A-7DD0-4851-83A4-3E2D047D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A02A3-8DF3-4A4A-A39E-F40E135C5A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