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75986"/>
        <c:axId val="3948615"/>
      </c:barChart>
      <c:catAx>
        <c:axId val="40675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615"/>
        <c:crosses val="autoZero"/>
        <c:auto val="1"/>
        <c:lblAlgn val="ctr"/>
        <c:lblOffset val="100"/>
        <c:noMultiLvlLbl val="0"/>
      </c:catAx>
      <c:valAx>
        <c:axId val="3948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75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109-E8F1-48CB-8C23-B2C98D60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C4F-14ED-43F3-8918-CDB67010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339-2B90-4601-8531-9AD08516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0CD-BA86-43A4-AA7B-98EAD1DA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5D9-A9CB-40D0-A13D-F55B6236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FAF-3A74-40CB-9B47-E0684BAA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5EB-C7E6-4008-9471-0E776A96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AA5-6C78-43D4-B48C-3ECE8387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A1A-F384-4E36-B9D4-A27B88A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12C-49D8-432B-93E8-68C7E722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0E2-EC90-4FD5-8C9D-6B4AED0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910-3756-410C-A439-0E4A0189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9FC9A-CEEB-4B30-AA6E-BD1D84B76E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