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36029"/>
        <c:axId val="72978717"/>
      </c:barChart>
      <c:catAx>
        <c:axId val="685360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78717"/>
        <c:crosses val="autoZero"/>
        <c:auto val="1"/>
        <c:lblAlgn val="ctr"/>
        <c:lblOffset val="100"/>
        <c:noMultiLvlLbl val="0"/>
      </c:catAx>
      <c:valAx>
        <c:axId val="72978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360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64D-378C-4E00-B074-D3DC110C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C73-88F4-4C28-A5A8-9784F144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B2A-6BD0-44F2-8EF7-4B1C94E7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60C-1351-4E3F-AF65-F4501917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609-9B97-4AD4-A0C9-6C8C9457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56A-2736-4465-AF95-10005A5D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C11-0027-445C-B3D5-926ACB91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9EA-C3DA-4C27-847C-0E5A178E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BAA-58DC-4031-9F11-6D2055C8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2782-6ACA-4514-8ED0-ED7C5DA4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7F0-9AAC-4F12-84DB-9FE84D5F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DA4-3D35-435D-BAA6-0B7AFA42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71223-FD77-473B-A935-51B460CF2E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