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241485"/>
        <c:axId val="43964317"/>
      </c:barChart>
      <c:catAx>
        <c:axId val="982414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64317"/>
        <c:crosses val="autoZero"/>
        <c:auto val="1"/>
        <c:lblAlgn val="ctr"/>
        <c:lblOffset val="100"/>
        <c:noMultiLvlLbl val="0"/>
      </c:catAx>
      <c:valAx>
        <c:axId val="439643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414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A39A-24F7-4AE4-98DE-35E63B67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FF70-4819-4FFB-BF49-5293A7AC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26E4-A2D1-44F7-9123-5BC473D62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8061-79BB-449D-A589-A66CE120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502D-1C94-4A71-8B56-FAD2D331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3DB4-4981-4D7A-B9BF-4149EF72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4905-9271-4EE7-85CD-F5C2820B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573B-0902-4941-BD4E-01089590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6E7A-1CD0-4D95-9949-B874ED0E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005F-EE2F-4854-9234-EA959100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52F9-BF59-40B2-8A61-BD10F61F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5A8A-D6A2-4AE0-8C07-17161AC4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09432-E0BC-4872-B884-1C40DAAE68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