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444755"/>
        <c:axId val="31159639"/>
      </c:barChart>
      <c:catAx>
        <c:axId val="904447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159639"/>
        <c:crosses val="autoZero"/>
        <c:auto val="1"/>
        <c:lblAlgn val="ctr"/>
        <c:lblOffset val="100"/>
        <c:noMultiLvlLbl val="0"/>
      </c:catAx>
      <c:valAx>
        <c:axId val="311596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4447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E258-1918-404E-8954-B40306090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746F-BD21-44D7-BB88-9C3BF650F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A5DF-7CA7-44C7-B753-FB092B1AB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9D43-9F6B-47F4-B201-CB6300DF9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9A43-561F-4D25-A9C0-2332D2C7E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00FA-19EC-47A7-80F1-07376774A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6211-EF83-4E3C-9774-7F0EA114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639F-5FEB-481D-A2C6-39E5F9D3F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7EAE-EF36-442B-930E-AA8C67DD0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0CB9-2064-4641-BD86-B8A8563A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DEAD-5076-4F1A-B5ED-5461BDFD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1769-7659-46FB-AEC0-785F2589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BA44B4-F2BE-46FE-934A-8F04511EB6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