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91665"/>
        <c:axId val="66076821"/>
      </c:barChart>
      <c:catAx>
        <c:axId val="55091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76821"/>
        <c:crosses val="autoZero"/>
        <c:auto val="1"/>
        <c:lblAlgn val="ctr"/>
        <c:lblOffset val="100"/>
        <c:noMultiLvlLbl val="0"/>
      </c:catAx>
      <c:valAx>
        <c:axId val="66076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91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57B-5935-4382-89C4-B0C5188B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FEE-5B84-455B-B8F5-72BC750A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E8E-68F4-4D7E-B96D-17B1D2B9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D9D-FCF2-4B33-B361-4504D94F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E43-4735-44AD-81F1-CDA2B920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C9C-86F2-472D-9529-DBAD3300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F7E-1B91-48D7-BF65-993D8B2A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99A-CACC-4751-9510-07864DBB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0F5-B892-4709-84E9-6C8ACAAB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5D8-9149-4DAB-9AFF-D27FE3D1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CCE-853C-4B1E-AF9D-08BE030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667-86DE-49A1-898F-59780AD0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55B68-A897-4EB5-A33D-428F7C8AF0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