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59531"/>
        <c:axId val="29069291"/>
      </c:barChart>
      <c:catAx>
        <c:axId val="53259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69291"/>
        <c:crosses val="autoZero"/>
        <c:auto val="1"/>
        <c:lblAlgn val="ctr"/>
        <c:lblOffset val="100"/>
        <c:noMultiLvlLbl val="0"/>
      </c:catAx>
      <c:valAx>
        <c:axId val="29069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59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F8E-B5F6-40DD-A59C-BA07BAB2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CFB-5179-438C-825B-BB8D19A2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551-796A-44E9-87CC-B97FA6A1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C52-0B6A-4A4C-90A9-5CFF95E0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598-7908-480A-B775-C6E6075B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D9E9-1ACB-4E47-95B9-282BFC81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60B-4CDF-403C-8B69-61D8F55C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CFA5-CAD3-4055-83A3-978C16DC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378-EFA2-4A73-9111-0D8E134E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CBC-42C2-4826-9516-6759F886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5EB-A692-496C-8A16-DFB17A74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E5D-375C-48C9-911E-74D686B6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5E6FC-D3D5-4068-8925-565F7FA194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